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B08B9-4918-48CA-AF27-DDA937A71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930FC-5DD0-4F54-9F2E-BFB1CC060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14958-FD4C-4664-B53F-655A8C2FD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B96D9-AC2B-45F9-A13B-BA901DFC8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D2BE8-C517-4151-A36A-ED9011C31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78E96-7EAB-4756-86DB-8A8A6D211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966DD-97C9-40D6-A967-2FDFB31FE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720B2-360E-4D4C-9619-222879A19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1A3BF-2395-41D2-9278-CEBB66492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FB56D-D2F1-4ED7-8207-60E140620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31929-11BB-48E9-B674-FC79F2D73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B1273-009A-43EE-8556-93C82A706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D2C31-4761-43EE-9962-A56964DB3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2A4F9-CB38-4B8D-8AE8-F4706E5EE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40867-51B1-4F19-BE00-A5B33756B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EA580-49A9-4E84-A8D2-BCF348D2C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C9492-E65D-41CB-9E75-0A15F8634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02A32-3605-4436-9AC4-777B33BE6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379F2-3E9F-4B95-950C-B70C85DDF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E79EB-695D-4628-B303-6090D856F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6F1EC-D02B-44F6-98BE-EBB4422D0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99AAF-1A15-42AA-93E1-801D2A309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7E0D2-B1DA-44E7-BBD1-95FB52DFB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85999-ED08-4C27-8D22-8BCD605D9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1" name="Freeform 3"/>
            <p:cNvSpPr/>
            <p:nvPr/>
          </p:nvSpPr>
          <p:spPr>
            <a:xfrm>
              <a:off x="5388120" y="158580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3366ff"/>
                </a:gs>
                <a:gs pos="100000">
                  <a:srgbClr val="182f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0" y="1440"/>
              <a:ext cx="8410680" cy="6845400"/>
            </a:xfrm>
            <a:prstGeom prst="pie">
              <a:avLst/>
            </a:pr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9CE36-007C-4B03-B95C-985969FC17A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10"/>
          <p:cNvGrpSpPr/>
          <p:nvPr/>
        </p:nvGrpSpPr>
        <p:grpSpPr>
          <a:xfrm>
            <a:off x="-1035000" y="1552680"/>
            <a:ext cx="10179000" cy="5305320"/>
            <a:chOff x="-1035000" y="1552680"/>
            <a:chExt cx="10179000" cy="5305320"/>
          </a:xfrm>
        </p:grpSpPr>
        <p:sp>
          <p:nvSpPr>
            <p:cNvPr id="45" name="Freeform 3"/>
            <p:cNvSpPr/>
            <p:nvPr/>
          </p:nvSpPr>
          <p:spPr>
            <a:xfrm>
              <a:off x="3271680" y="2709720"/>
              <a:ext cx="5872320" cy="4148280"/>
            </a:xfrm>
            <a:prstGeom prst="pie">
              <a:avLst/>
            </a:prstGeom>
            <a:gradFill rotWithShape="0">
              <a:gsLst>
                <a:gs pos="0">
                  <a:srgbClr val="3366ff"/>
                </a:gs>
                <a:gs pos="100000">
                  <a:srgbClr val="182f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Arc 4"/>
            <p:cNvSpPr/>
            <p:nvPr/>
          </p:nvSpPr>
          <p:spPr>
            <a:xfrm>
              <a:off x="-1035000" y="1552680"/>
              <a:ext cx="6726240" cy="5305320"/>
            </a:xfrm>
            <a:prstGeom prst="pie">
              <a:avLst/>
            </a:pr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4E26C-9C93-4F28-8A1E-06BC9FF1EEF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1371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anda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0" y="2285640"/>
            <a:ext cx="9144000" cy="259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rk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duc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FBA8F-CB84-408F-8B39-6CA5B34A0C3C}" type="datetime2"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ursday, July 30, 2026</a:t>
            </a:fld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urpos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audience will know the habitat, food, adaption of the panda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ry to personalize the pitch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 your idea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 am planning for my story to be about pandas and there environment and how rare they are, especially the fact of why they are almost extinct. I will also mention where they originally come from and there food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Business Model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y movie is going to play on iMovi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y video will be special and different because it’s going to have detai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Important Tip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Talk slowly and clearly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Be enthusiastic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Practice, Practice and Practic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Relax and have fun!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20T19:00:44Z</dcterms:created>
  <dc:creator/>
  <dc:description/>
  <dc:language>en-US</dc:language>
  <cp:lastModifiedBy>City School</cp:lastModifiedBy>
  <dcterms:modified xsi:type="dcterms:W3CDTF">2013-02-20T19:23:38Z</dcterms:modified>
  <cp:revision>40</cp:revision>
  <dc:subject/>
  <dc:title>The Pitch-Then-Plan Business Planning Template</dc:title>
</cp:coreProperties>
</file>